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64EC-E15F-47B9-94FA-D6C0207468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DFAD-6CF1-43CC-A0DA-994D278D281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D457-1DB7-42D8-ABBE-EC66BFD59F0D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ca 1.000 policistů, v roce 2020 - 66.900, v roce 2021 54.850 přestupk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D897-7F0E-4B7A-8F0E-7BF8F9F87A75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CEDE-ADE5-4BCF-90D3-7843804C0EA7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1589-6B92-451E-A003-B6CC7C2F7132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432D-75D3-41F5-8DCA-8E5843113382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A109-1F67-4A82-A6AF-50106AEE30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6741-4862-4A23-B6D0-10BB873ED7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946E-51E4-4493-B3AA-BA0213848F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57F-375E-4F17-A681-773CC14814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342B-8C07-40FE-BB56-F07372AF3D52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2372-5ED7-4E64-ABAC-67ECE1044E2D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6DB4-E605-4808-9A26-9961ACA2C81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6ECD-2D05-469B-9C68-25D994324D3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E5A0-04C6-4E03-B11E-91DB1A59F84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26E9-69F1-4063-B1A0-DF7FDF3394A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ástupný symbol pro číslo snímku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C7FF-8E47-4381-9A4C-AFD9FFD03B23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861-A763-4944-BD38-4FFC49AA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66600"/>
            <a:ext cx="822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719-5B5B-48D8-B862-4393C134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6660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6660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B31-1E52-49E2-AD1A-DDC711A6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66600"/>
            <a:ext cx="264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66600"/>
            <a:ext cx="264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66600"/>
            <a:ext cx="264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DD8-36B2-4CE3-9C67-37B921A0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6660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FFC-C864-4D62-AA34-B1DA1701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6660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66600"/>
            <a:ext cx="822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66600"/>
            <a:ext cx="822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6660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6660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66600"/>
            <a:ext cx="264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66600"/>
            <a:ext cx="264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66600"/>
            <a:ext cx="264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EFD-73B2-4048-80E5-0B8176B4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BF4-E5A7-4A9F-9AB2-1B9CD452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9DE-0A43-4849-B634-7B1048FD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2E4-C0A6-4E17-90B2-4499FC97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6660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7F8-EEEA-422B-9A9C-0BE2ED7A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6660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4B0-5EF5-453B-8445-CF213F0E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66600"/>
            <a:ext cx="8229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187-DFB4-4ECA-B4AD-51E2E74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e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bezna zapato"/>
          <p:cNvPicPr/>
          <p:nvPr/>
        </p:nvPicPr>
        <p:blipFill>
          <a:blip r:embed="rId2"/>
          <a:stretch/>
        </p:blipFill>
        <p:spPr>
          <a:xfrm>
            <a:off x="324000" y="5629320"/>
            <a:ext cx="6913440" cy="1039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1547640" y="6002280"/>
            <a:ext cx="7128000" cy="647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2B16-8378-406F-A730-B9148FA2AB2A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763640" y="6308280"/>
            <a:ext cx="4680000" cy="1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lk. Mgr. Jan Kosteč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5128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37C5-9E09-4B7D-9805-C30AB98B8C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e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bezna zapato"/>
          <p:cNvPicPr/>
          <p:nvPr/>
        </p:nvPicPr>
        <p:blipFill>
          <a:blip r:embed="rId2"/>
          <a:stretch/>
        </p:blipFill>
        <p:spPr>
          <a:xfrm>
            <a:off x="324000" y="5629320"/>
            <a:ext cx="6913440" cy="1039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1547640" y="6002280"/>
            <a:ext cx="7128000" cy="647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logo_titulka"/>
          <p:cNvPicPr/>
          <p:nvPr/>
        </p:nvPicPr>
        <p:blipFill>
          <a:blip r:embed="rId3"/>
          <a:stretch/>
        </p:blipFill>
        <p:spPr>
          <a:xfrm>
            <a:off x="542880" y="4765680"/>
            <a:ext cx="3828960" cy="1544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0364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F634-A07D-4777-973B-632584AD24CC}" type="datetime">
              <a:rPr b="0" lang="cs-CZ" sz="1200" spc="-1" strike="noStrike">
                <a:solidFill>
                  <a:srgbClr val="ffffff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27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Calibri"/>
                <a:ea typeface="Calibri"/>
              </a:rPr>
              <a:t>BEZPEČNOST SILNIČNÍHO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Calibri"/>
                <a:ea typeface="Calibri"/>
              </a:rPr>
              <a:t>PROVOZU</a:t>
            </a:r>
            <a:br>
              <a:rPr sz="4800"/>
            </a:br>
            <a:r>
              <a:rPr b="1" lang="cs-CZ" sz="4800" spc="-1" strike="noStrike">
                <a:solidFill>
                  <a:srgbClr val="ffffff"/>
                </a:solidFill>
                <a:latin typeface="Calibri"/>
                <a:ea typeface="Calibri"/>
              </a:rPr>
              <a:t>V KRAJI VYSOČ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C:\Documents and Settings\ah277990\Plocha\prezentace\znak_vysocina_pcr kopie.png"/>
          <p:cNvPicPr/>
          <p:nvPr/>
        </p:nvPicPr>
        <p:blipFill>
          <a:blip r:embed="rId1"/>
          <a:stretch/>
        </p:blipFill>
        <p:spPr>
          <a:xfrm>
            <a:off x="7427880" y="4221000"/>
            <a:ext cx="1081080" cy="1177920"/>
          </a:xfrm>
          <a:prstGeom prst="rect">
            <a:avLst/>
          </a:prstGeom>
          <a:ln w="0">
            <a:noFill/>
          </a:ln>
        </p:spPr>
      </p:pic>
      <p:sp>
        <p:nvSpPr>
          <p:cNvPr id="94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, Odbor služby dopravní polici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11BF-283D-4ADD-BDC9-85AF72F545B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REVENTIVNÍ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955E-F9DE-4B45-9DFA-8083E61D625E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1"/>
          <p:cNvSpPr/>
          <p:nvPr/>
        </p:nvSpPr>
        <p:spPr>
          <a:xfrm>
            <a:off x="457200" y="1125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dnášky na škol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zaměření na chodce a cyklisty v silničním pro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F:\bezpecna_vysocina_laserovy_radar_KR-VYS.jpg"/>
          <p:cNvPicPr/>
          <p:nvPr/>
        </p:nvPicPr>
        <p:blipFill>
          <a:blip r:embed="rId1"/>
          <a:stretch/>
        </p:blipFill>
        <p:spPr>
          <a:xfrm>
            <a:off x="2843280" y="1738440"/>
            <a:ext cx="5329080" cy="3551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A7A1-F5C3-4E61-A292-D0F5322C3281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REVENTIVNÍ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A782-8C11-418A-A0EC-43136C27127E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ovéPole 1"/>
          <p:cNvSpPr/>
          <p:nvPr/>
        </p:nvSpPr>
        <p:spPr>
          <a:xfrm>
            <a:off x="457200" y="11253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pravně bezpečnostní 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k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nování se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adp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ada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tní prázdn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ázek 1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3222720" cy="4297680"/>
          </a:xfrm>
          <a:prstGeom prst="rect">
            <a:avLst/>
          </a:prstGeom>
          <a:ln w="0">
            <a:noFill/>
          </a:ln>
        </p:spPr>
      </p:pic>
      <p:sp>
        <p:nvSpPr>
          <p:cNvPr id="154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7A77-E531-4D79-9A39-4830DB5FC6D0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DOPRAVNĚ INŽENÝRSKÝ Ú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4D76-4F74-49B7-ADF3-A0C76C55A785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1" descr=""/>
          <p:cNvPicPr/>
          <p:nvPr/>
        </p:nvPicPr>
        <p:blipFill>
          <a:blip r:embed="rId1"/>
          <a:stretch/>
        </p:blipFill>
        <p:spPr>
          <a:xfrm>
            <a:off x="971640" y="949320"/>
            <a:ext cx="720072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4B2E-F2DA-48C5-A740-F08DAED8982E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DOPRAVNĚ INŽENÝRSKÝ Ú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950D-32DD-44C0-A95A-F096BB9306A8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1"/>
          <p:cNvSpPr/>
          <p:nvPr/>
        </p:nvSpPr>
        <p:spPr>
          <a:xfrm>
            <a:off x="457200" y="1125360"/>
            <a:ext cx="82296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Krajského ředitelství policie kraje Vysočina tuto činnost zajišťuje 11 příslušníků Policie Č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en vrchní komisař odboru služby dopravní policie KŘP-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eset komisařů na pěti dopravních inspektoráte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innosti vyplývající ze stavebního zák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sítě pozemních komunikací, silničního provozu, připojování a dopravní obsluze objektů a řízení silničního provoz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zemní, stavební a společné řízení zejména v případě nové výstavby, změn užívání a stavebních úprav stávajících staveb, které zasahují do pozemních komunikací nebo se jich týka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A21D-E1DB-43AD-96CD-65BE5A980E02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DOPRAVNĚ INŽENÝRSKÝ Ú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75E1-4A93-4AAC-B2BE-27B1EC3A6FCB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1"/>
          <p:cNvSpPr/>
          <p:nvPr/>
        </p:nvSpPr>
        <p:spPr>
          <a:xfrm>
            <a:off x="457200" y="112536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innosti vyplývající ze zákona o pozemních komunikacích, zákona o silničním provozu a správního řá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novení místní a přechodné úpravy silničního provozu a užití zařízení pro provozní inform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vazná stanoviska z hlediska bezpečnosti a plynulosti silničního provozu pro rozhodnutí silničního správního úř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vádí vlastní kontrolní činnost z hlediska zajištění podmínek bezpečnosti a plynulosti silničního provo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vádí analytickou činnost související s vyhodnocováním míst se zvýšenou dopravní nehodovostí, k tomu využívá poznatků z vlastní kontrolní činnosti a výstupních sestav počítačového zpracování dopravních ne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dává stanoviska k předložené projektové dokumenta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ástupný symbol pro číslo snímku 4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D949-5278-47E6-947D-E1646DE0C76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57200" y="26820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DOPRAVNÍ NE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ástupný symbol pro datum 1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A433-A5BA-4431-ABA4-602AD89AF3C0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ázek 3" descr=""/>
          <p:cNvPicPr/>
          <p:nvPr/>
        </p:nvPicPr>
        <p:blipFill>
          <a:blip r:embed="rId1"/>
          <a:srcRect l="0" t="13540" r="0" b="0"/>
          <a:stretch/>
        </p:blipFill>
        <p:spPr>
          <a:xfrm>
            <a:off x="971640" y="971640"/>
            <a:ext cx="720072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ástupný symbol pro číslo snímku 4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A23B-84E0-4784-9BA2-A7373F8EECB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781200" y="27936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OČET DOPRAVNÍCH NEHOD (2010 - 20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datum 1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A566-707C-4B4D-A744-3754C0CF6CE1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Graf 8"/>
          <p:cNvGraphicFramePr/>
          <p:nvPr/>
        </p:nvGraphicFramePr>
        <p:xfrm>
          <a:off x="971640" y="912960"/>
          <a:ext cx="7200720" cy="431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Graf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12960"/>
                    <a:ext cx="720072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FC8D-A407-4226-AD59-19B18FCC9E8E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OČET ŠETŘENÝCH DN 2016 –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BE6F-E562-49B9-9912-6481E5E923EC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Graf 6"/>
          <p:cNvGraphicFramePr/>
          <p:nvPr/>
        </p:nvGraphicFramePr>
        <p:xfrm>
          <a:off x="971640" y="971640"/>
          <a:ext cx="7200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Graf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71640"/>
                    <a:ext cx="7200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Zástupný symbol pro číslo snímku 4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4FFE-C220-4996-84DD-A8FBCA41BF9F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NÁSLEDKY DOPRAVNÍCH NEHOD NA ZDRAVÍ (2010-20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146D-B95A-4F58-AFC1-B625D25EB9ED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Graf 6"/>
          <p:cNvGraphicFramePr/>
          <p:nvPr/>
        </p:nvGraphicFramePr>
        <p:xfrm>
          <a:off x="971640" y="971640"/>
          <a:ext cx="7200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Graf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71640"/>
                    <a:ext cx="7200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ástupný symbol pro číslo snímku 4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0D52-D02C-47F8-B214-6CAC1D120A6E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ALKOHOL ZJIŠTĚNÝ U VINÍKA DN (2010 - 20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0D83-6A00-4C54-BA32-46C669D503C5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Graf 7"/>
          <p:cNvGraphicFramePr/>
          <p:nvPr/>
        </p:nvGraphicFramePr>
        <p:xfrm>
          <a:off x="971640" y="971640"/>
          <a:ext cx="7200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Graf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71640"/>
                    <a:ext cx="7200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6" descr=""/>
          <p:cNvPicPr/>
          <p:nvPr/>
        </p:nvPicPr>
        <p:blipFill>
          <a:blip r:embed="rId1"/>
          <a:stretch/>
        </p:blipFill>
        <p:spPr>
          <a:xfrm>
            <a:off x="5870520" y="2759040"/>
            <a:ext cx="2772000" cy="2652840"/>
          </a:xfrm>
          <a:prstGeom prst="rect">
            <a:avLst/>
          </a:prstGeom>
          <a:ln w="0">
            <a:noFill/>
          </a:ln>
        </p:spPr>
      </p:pic>
      <p:pic>
        <p:nvPicPr>
          <p:cNvPr id="96" name="Obrázek 4" descr=""/>
          <p:cNvPicPr/>
          <p:nvPr/>
        </p:nvPicPr>
        <p:blipFill>
          <a:blip r:embed="rId2"/>
          <a:stretch/>
        </p:blipFill>
        <p:spPr>
          <a:xfrm>
            <a:off x="4352760" y="393840"/>
            <a:ext cx="4284720" cy="2041560"/>
          </a:xfrm>
          <a:prstGeom prst="rect">
            <a:avLst/>
          </a:prstGeom>
          <a:ln w="0">
            <a:noFill/>
          </a:ln>
        </p:spPr>
      </p:pic>
      <p:pic>
        <p:nvPicPr>
          <p:cNvPr id="97" name="Obrázek 3" descr=""/>
          <p:cNvPicPr/>
          <p:nvPr/>
        </p:nvPicPr>
        <p:blipFill>
          <a:blip r:embed="rId3"/>
          <a:stretch/>
        </p:blipFill>
        <p:spPr>
          <a:xfrm>
            <a:off x="684360" y="2847960"/>
            <a:ext cx="3095640" cy="2522520"/>
          </a:xfrm>
          <a:prstGeom prst="rect">
            <a:avLst/>
          </a:prstGeom>
          <a:ln w="0">
            <a:noFill/>
          </a:ln>
        </p:spPr>
      </p:pic>
      <p:pic>
        <p:nvPicPr>
          <p:cNvPr id="98" name="Obrázek 2" descr=""/>
          <p:cNvPicPr/>
          <p:nvPr/>
        </p:nvPicPr>
        <p:blipFill>
          <a:blip r:embed="rId4"/>
          <a:stretch/>
        </p:blipFill>
        <p:spPr>
          <a:xfrm>
            <a:off x="684360" y="393840"/>
            <a:ext cx="3527280" cy="1922400"/>
          </a:xfrm>
          <a:prstGeom prst="rect">
            <a:avLst/>
          </a:prstGeom>
          <a:ln w="0">
            <a:noFill/>
          </a:ln>
        </p:spPr>
      </p:pic>
      <p:sp>
        <p:nvSpPr>
          <p:cNvPr id="99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3C4C-E607-47EA-AB9E-B5478E60E69D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ástupný symbol pro číslo snímku 4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1FF4-9557-4869-BE27-32FC9A6C793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Obrázek 5" descr=""/>
          <p:cNvPicPr/>
          <p:nvPr/>
        </p:nvPicPr>
        <p:blipFill>
          <a:blip r:embed="rId5"/>
          <a:stretch/>
        </p:blipFill>
        <p:spPr>
          <a:xfrm>
            <a:off x="3133800" y="1839960"/>
            <a:ext cx="2876400" cy="3178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ro číslo snímku 4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2AF3-FE48-4AC3-8508-B1B49471B795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ALKOHOL ZJIŠTĚNÝ U VINÍKA DN (2010 - 20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C07E-41AC-4081-8F36-AE0BF57E40B0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Graf 7"/>
          <p:cNvGraphicFramePr/>
          <p:nvPr/>
        </p:nvGraphicFramePr>
        <p:xfrm>
          <a:off x="971640" y="971640"/>
          <a:ext cx="7200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Graf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71640"/>
                    <a:ext cx="7200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669C-FD36-4D61-A69D-4F577BFBADD1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C:\Documents and Settings\ah277990\Plocha\prezentace\katalog_cliparty\_Vista\j0433823.png"/>
          <p:cNvPicPr/>
          <p:nvPr/>
        </p:nvPicPr>
        <p:blipFill>
          <a:blip r:embed="rId1"/>
          <a:stretch/>
        </p:blipFill>
        <p:spPr>
          <a:xfrm>
            <a:off x="6156360" y="3357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07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41F2-9BA5-45D7-90F0-F88F30D4EEBC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826920" y="1847880"/>
            <a:ext cx="7942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  <a:ea typeface="Arial"/>
              </a:rPr>
              <a:t>Děkuji za pozornost.</a:t>
            </a:r>
            <a:br>
              <a:rPr sz="2400"/>
            </a:br>
            <a:br>
              <a:rPr sz="2400"/>
            </a:br>
            <a:r>
              <a:rPr b="1" lang="cs-CZ" sz="2000" spc="-1" strike="noStrike">
                <a:solidFill>
                  <a:srgbClr val="002060"/>
                </a:solidFill>
                <a:latin typeface="Calibri"/>
                <a:ea typeface="Arial"/>
              </a:rPr>
              <a:t>plk. Mgr. Jan Kostečka</a:t>
            </a:r>
            <a:br>
              <a:rPr sz="2000"/>
            </a:br>
            <a:r>
              <a:rPr b="0" lang="cs-CZ" sz="2000" spc="-1" strike="noStrike">
                <a:solidFill>
                  <a:srgbClr val="002060"/>
                </a:solidFill>
                <a:latin typeface="Calibri"/>
                <a:ea typeface="Arial"/>
              </a:rPr>
              <a:t>zástupce ředitele odboru</a:t>
            </a:r>
            <a:br>
              <a:rPr sz="2000"/>
            </a:br>
            <a:r>
              <a:rPr b="0" lang="cs-CZ" sz="2000" spc="-1" strike="noStrike">
                <a:solidFill>
                  <a:srgbClr val="002060"/>
                </a:solidFill>
                <a:latin typeface="Calibri"/>
                <a:ea typeface="Arial"/>
              </a:rPr>
              <a:t>Krajské ředitelství policie kraje Vysoč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  <a:ea typeface="Arial"/>
              </a:rPr>
              <a:t>Územní odbor Žďár nad Sázavou</a:t>
            </a:r>
            <a:br>
              <a:rPr sz="2000"/>
            </a:br>
            <a:r>
              <a:rPr b="0" lang="cs-CZ" sz="2000" spc="-1" strike="noStrike">
                <a:solidFill>
                  <a:srgbClr val="002060"/>
                </a:solidFill>
                <a:latin typeface="Calibri"/>
                <a:ea typeface="Arial"/>
              </a:rPr>
              <a:t>tel.:     974 282 222</a:t>
            </a:r>
            <a:br>
              <a:rPr sz="2000"/>
            </a:br>
            <a:r>
              <a:rPr b="0" lang="cs-CZ" sz="2000" spc="-1" strike="noStrike">
                <a:solidFill>
                  <a:srgbClr val="002060"/>
                </a:solidFill>
                <a:latin typeface="Calibri"/>
                <a:ea typeface="Arial"/>
              </a:rPr>
              <a:t>email: jan.kostecka@pcr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3155-5597-487F-9DB4-A7DF287AB4FA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BEZPEČNOST SILNIČNÍHO PROVO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2F5-4708-4535-BA45-15A9C160E0D2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457200" y="1125360"/>
            <a:ext cx="822960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hled na silniční provo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zejména kontroly dodržování pravidel silničního provozu a povinností účastníků silničního provozu, řízení silničního provozu, kontroly technického stavu vozidel přímo v silničním provozu a dodržování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ákona o silničním provozu, zákona o pozemních komunikacích, záko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podmínkách provozu vozidel a zákona o silniční dopr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pravně inženýrský ús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specializované pracoviště, které plní úkoly policie vyplývající z výkonu státní správy a prevence v oblasti bezpečnosti a plynulosti silničního provo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eventivní čin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spolupráce s ostatními útvary nebo organizačními články policie, bezpečnostními sbory a dalšími orgány veřejné správy, jakož i s právnickými a fyzickými osob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7468-5DD2-4FE6-9BE8-A95FF0FE39E8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REVENTIVNÍ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57B7-97C5-4589-A527-CDC6C11F2EB1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ek 2" descr=""/>
          <p:cNvPicPr/>
          <p:nvPr/>
        </p:nvPicPr>
        <p:blipFill>
          <a:blip r:embed="rId1"/>
          <a:stretch/>
        </p:blipFill>
        <p:spPr>
          <a:xfrm>
            <a:off x="971640" y="993600"/>
            <a:ext cx="720072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AE94-3C5E-4D61-A402-9DBA3741E1DD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REVENTIVNÍ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19C1-639D-4780-9950-A70A029E024A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1"/>
          <p:cNvSpPr/>
          <p:nvPr/>
        </p:nvSpPr>
        <p:spPr>
          <a:xfrm>
            <a:off x="457200" y="11253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iditel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zaměření na chodce a cykl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rázek 1" descr=""/>
          <p:cNvPicPr/>
          <p:nvPr/>
        </p:nvPicPr>
        <p:blipFill>
          <a:blip r:embed="rId1"/>
          <a:stretch/>
        </p:blipFill>
        <p:spPr>
          <a:xfrm>
            <a:off x="971640" y="1619280"/>
            <a:ext cx="7200720" cy="3600360"/>
          </a:xfrm>
          <a:prstGeom prst="rect">
            <a:avLst/>
          </a:prstGeom>
          <a:ln w="0">
            <a:noFill/>
          </a:ln>
        </p:spPr>
      </p:pic>
      <p:sp>
        <p:nvSpPr>
          <p:cNvPr id="118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DD94-4F9D-4EDC-81C0-409C26C00AA3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REVENTIVNÍ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A84F-7A00-4DDF-AC7A-FF5DC22D93C1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1"/>
          <p:cNvSpPr/>
          <p:nvPr/>
        </p:nvSpPr>
        <p:spPr>
          <a:xfrm>
            <a:off x="457200" y="1125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ídím, piju nealk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prevence požití alkoholu před řízením dopravních prostřed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ázek 2" descr=""/>
          <p:cNvPicPr/>
          <p:nvPr/>
        </p:nvPicPr>
        <p:blipFill>
          <a:blip r:embed="rId1"/>
          <a:stretch/>
        </p:blipFill>
        <p:spPr>
          <a:xfrm>
            <a:off x="971640" y="1800360"/>
            <a:ext cx="7200720" cy="3600360"/>
          </a:xfrm>
          <a:prstGeom prst="rect">
            <a:avLst/>
          </a:prstGeom>
          <a:ln w="0">
            <a:noFill/>
          </a:ln>
        </p:spPr>
      </p:pic>
      <p:sp>
        <p:nvSpPr>
          <p:cNvPr id="124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88CF-44C3-4F7D-84F2-318EF9161920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REVENTIVNÍ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A5E8-9ECF-4442-B1BC-EBBDF88EB3F5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1"/>
          <p:cNvSpPr/>
          <p:nvPr/>
        </p:nvSpPr>
        <p:spPr>
          <a:xfrm>
            <a:off x="457200" y="1125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bra se za Tebe nerozhlédn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pravidelný projekt od roku 2007, chování na přechodech pro chodce, odbourání mýtu o absolutní přednosti chod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1" descr=""/>
          <p:cNvPicPr/>
          <p:nvPr/>
        </p:nvPicPr>
        <p:blipFill>
          <a:blip r:embed="rId1"/>
          <a:stretch/>
        </p:blipFill>
        <p:spPr>
          <a:xfrm>
            <a:off x="3132000" y="1800360"/>
            <a:ext cx="2880000" cy="360036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F5B8-A5AA-4C5D-B444-90B94B9FDEC3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REVENTIVNÍ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3D9D-804F-4E3C-B619-2BD1F5152945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1"/>
          <p:cNvSpPr/>
          <p:nvPr/>
        </p:nvSpPr>
        <p:spPr>
          <a:xfrm>
            <a:off x="457200" y="1125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mal, dokud není skutečně pozd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www.13minu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ázek 1" descr=""/>
          <p:cNvPicPr/>
          <p:nvPr/>
        </p:nvPicPr>
        <p:blipFill>
          <a:blip r:embed="rId1"/>
          <a:stretch/>
        </p:blipFill>
        <p:spPr>
          <a:xfrm>
            <a:off x="2598840" y="1495440"/>
            <a:ext cx="3946320" cy="394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ro číslo snímku 5"/>
          <p:cNvSpPr/>
          <p:nvPr/>
        </p:nvSpPr>
        <p:spPr>
          <a:xfrm>
            <a:off x="7451640" y="6021360"/>
            <a:ext cx="98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8482-C30E-4470-A091-D2D5540FCB04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PREVENTIVNÍ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datum 3"/>
          <p:cNvSpPr/>
          <p:nvPr/>
        </p:nvSpPr>
        <p:spPr>
          <a:xfrm>
            <a:off x="6659640" y="6308640"/>
            <a:ext cx="1774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ADE1-FE0C-4B3F-9A6E-5C5715BB9977}" type="datetime">
              <a:rPr b="0" lang="cs-CZ" sz="12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1"/>
          <p:cNvSpPr/>
          <p:nvPr/>
        </p:nvSpPr>
        <p:spPr>
          <a:xfrm>
            <a:off x="457200" y="1125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mal, dokud není skutečně pozd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www.13minu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ázek 1" descr=""/>
          <p:cNvPicPr/>
          <p:nvPr/>
        </p:nvPicPr>
        <p:blipFill>
          <a:blip r:embed="rId1"/>
          <a:stretch/>
        </p:blipFill>
        <p:spPr>
          <a:xfrm>
            <a:off x="971640" y="1619280"/>
            <a:ext cx="7200720" cy="360036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zápatí 4"/>
          <p:cNvSpPr/>
          <p:nvPr/>
        </p:nvSpPr>
        <p:spPr>
          <a:xfrm>
            <a:off x="1763640" y="6237360"/>
            <a:ext cx="5256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Krajské ředitelství policie kraje Vysoč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3:44:22Z</dcterms:created>
  <dc:creator>user</dc:creator>
  <dc:description/>
  <dc:language>en-US</dc:language>
  <cp:lastModifiedBy>KOSTEČKA Jan</cp:lastModifiedBy>
  <cp:lastPrinted>2018-10-25T05:54:33Z</cp:lastPrinted>
  <dcterms:modified xsi:type="dcterms:W3CDTF">2021-11-01T09:27:08Z</dcterms:modified>
  <cp:revision>455</cp:revision>
  <dc:subject/>
  <dc:title>Snímek 1</dc:title>
</cp:coreProperties>
</file>