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rajský úřad Plzeňského kr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B8BB-48F5-4B6E-BF35-D476977E594F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9058-1B03-4012-A977-9F59205E42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átní správu podle z.č. 361/2000Sb.,ve věcech provozu na pozemních komunikacích vykonává krajský úřad a další…(MD,OÚ s rozš.půs, MV a PČR. Na rozdíl od zákona č. 13/1997Sb., o pozemních komunikacích, kdy státní správu podle tohoto zákona vykonávají silniční správní úřady, kterými jsou krajský úřad a další...(MD,OÚ s rozš.půs, CÚ, ob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0ED-43BE-4B61-955D-ED6014C5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2A4-563B-4891-8ED1-E6247401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C05-2F03-416D-B590-4BA98FE1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C11-DA15-4B4D-85CE-9268F9D5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401C-13B9-4BA9-B952-F788F6FF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2400-9912-45C9-A0EB-EDBFD822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651F-214A-4AE5-A586-F31F4EDA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EBFC-C71F-4318-9126-FBC81F2B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4EA8-9741-4C23-B0BC-A220623C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50B5-9195-4ADC-B89F-2345124A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01E5-AC47-4D99-BA8F-EA1C9F5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6A8-37B7-45C8-B4D9-3E617D6A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D6FD-99C3-44A1-A617-E6F63E3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3AA2-70D5-47C1-A7A6-606986C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C5D5-B44B-4D62-8B85-A3869D44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58B2-DD3C-48F6-B012-6577924A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968B-5AD3-4F6E-AB67-E5651B7F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736-E62F-4363-937A-2881ACE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481-02C5-4E7A-B47F-CAB4E41D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914-D36E-4BF6-ACF8-5A2F8659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1DA-3441-4172-8F74-98CB011B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3AE-EAF0-43D4-9AD3-07A73C6D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131-9669-4E79-AF68-C5684BC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9A5-BD26-4EF0-8FC4-4B7B3F32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b1f2a"/>
                </a:gs>
                <a:gs pos="100000">
                  <a:srgbClr val="3b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E5C4-4CAF-42BA-89F4-C55E925BFFB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gr. Dušan Pakandl email:dusan.pakandl@plzensky-kraj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CCE1-958D-4FB8-A648-4E67DFF05017}" type="slidenum"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b1f2a"/>
                </a:gs>
                <a:gs pos="100000">
                  <a:srgbClr val="3b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0C71-74DB-4C19-AD7E-E626F2DEAD5D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1190-8DC1-437C-8E7D-C5E806E95206}" type="slidenum">
              <a:rPr b="0" lang="cs-CZ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ástupný symbol pro zápatí 5"/>
          <p:cNvSpPr/>
          <p:nvPr/>
        </p:nvSpPr>
        <p:spPr>
          <a:xfrm>
            <a:off x="684360" y="6365880"/>
            <a:ext cx="51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Bc. Pavlína Nováčková e-mail:pavlina.novackova@plzensky-kraj.c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Krajský úřad Plzeňského kraje </a:t>
            </a:r>
            <a:r>
              <a:rPr b="0" lang="cs-CZ" sz="3200" spc="-1" strike="noStrike">
                <a:solidFill>
                  <a:srgbClr val="fff39d"/>
                </a:solidFill>
                <a:latin typeface="Arial"/>
              </a:rPr>
              <a:t>Odbor dopravy a silničního hospodářství</a:t>
            </a:r>
            <a:endParaRPr b="0" lang="en-US" sz="32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 místní a přechodné úpravy provozu na pozemních  komunikacích  z  pohledu správního orgán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33" descr="logo plzeňský kraj"/>
          <p:cNvPicPr/>
          <p:nvPr/>
        </p:nvPicPr>
        <p:blipFill>
          <a:blip r:embed="rId1"/>
          <a:stretch/>
        </p:blipFill>
        <p:spPr>
          <a:xfrm>
            <a:off x="2665440" y="4610160"/>
            <a:ext cx="380988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bdélník 2"/>
          <p:cNvSpPr/>
          <p:nvPr/>
        </p:nvSpPr>
        <p:spPr>
          <a:xfrm>
            <a:off x="609480" y="1371600"/>
            <a:ext cx="6248520" cy="17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echodná úprava provoz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stejný postup jako u místní úpravy provoz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Stanovené dopravní opatření musí být</a:t>
            </a:r>
            <a:r>
              <a:rPr b="0" lang="cs-CZ" sz="4400" spc="-1" strike="noStrike">
                <a:solidFill>
                  <a:srgbClr val="fff39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zsahu a způsobem jak to vyžaduje bezpečnost a plynulost provozu na pozemních komunikacích nebo jiný důležitý záj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čelná, srozumitelná, výstižná, jednoznačná, úpln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Specifika stanovení</a:t>
            </a:r>
            <a:endParaRPr b="0" lang="en-US" sz="4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rávní orgán neřeší majetkové vztahy s výjimkou umístění  na nemovitosti v průjezdním úseku silnice nebo místní komunikace –zřízení věcného břem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kdo žádá, ten DZ platí, záleží na veřejném záj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Výjimka z místní a přechodné úpravy</a:t>
            </a:r>
            <a:endParaRPr b="0" lang="en-US" sz="4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§77 odst. 6, zákona o silničním provo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voluje ten kdo úpravu stanov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dávána formou rozhod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licista pokynem na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rázek 2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Úkol</a:t>
            </a:r>
            <a:r>
              <a:rPr b="0" lang="cs-CZ" sz="4400" spc="-1" strike="noStrike">
                <a:solidFill>
                  <a:srgbClr val="fff39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známit s činností </a:t>
            </a:r>
            <a:r>
              <a:rPr b="0" lang="cs-CZ" sz="2800" spc="-1" strike="noStrike">
                <a:solidFill>
                  <a:srgbClr val="fff39d"/>
                </a:solidFill>
                <a:latin typeface="Times New Roman"/>
              </a:rPr>
              <a:t>správního orgán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procesu stanovení místní a přechodné úpravy provozu na pozemních komunikací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pozornit na rozdíl </a:t>
            </a:r>
            <a:r>
              <a:rPr b="0" lang="cs-CZ" sz="2800" spc="-1" strike="noStrike">
                <a:solidFill>
                  <a:srgbClr val="f9e181"/>
                </a:solidFill>
                <a:latin typeface="Times New Roman"/>
              </a:rPr>
              <a:t>mezi správním orgáne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f9e181"/>
                </a:solidFill>
                <a:latin typeface="Times New Roman"/>
              </a:rPr>
              <a:t>silničním správním úřade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procesu stanov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Právní úprava</a:t>
            </a:r>
            <a:endParaRPr b="0" lang="en-US" sz="4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361/2000 Sb.,  o  provozu na pozemních komunikacích a o změnách některých zákonů, ve znění pozdějších předpisů (dále jen „zákon o silničním provozu“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Ministerstva dopravy č. 294/2015 Sb., kterou se provádějí pravidla provozu na pozemních komunikací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sady pro dopravní značení na pozemních komunikacích Technické podmínky TP 65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sady pro označování pracovních míst TP 6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alší TP 100, 108, 169, KTZ 20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Věcná příslušnost správních orgánů ke stanovení</a:t>
            </a:r>
            <a:endParaRPr b="0" lang="en-US" sz="4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álnice – </a:t>
            </a:r>
            <a:r>
              <a:rPr b="0" lang="cs-CZ" sz="2800" spc="-1" strike="noStrike">
                <a:solidFill>
                  <a:srgbClr val="ffcc00"/>
                </a:solidFill>
                <a:latin typeface="Times New Roman"/>
              </a:rPr>
              <a:t>Ministerstvo dopra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ice I. třídy - místně příslušný </a:t>
            </a:r>
            <a:r>
              <a:rPr b="0" lang="cs-CZ" sz="2800" spc="-1" strike="noStrike">
                <a:solidFill>
                  <a:srgbClr val="ffcc00"/>
                </a:solidFill>
                <a:latin typeface="Times New Roman"/>
              </a:rPr>
              <a:t>krajský úř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ice II. a III. třídy, MK, VPÚK – </a:t>
            </a:r>
            <a:r>
              <a:rPr b="0" lang="cs-CZ" sz="2800" spc="-1" strike="noStrike">
                <a:solidFill>
                  <a:srgbClr val="ffcc00"/>
                </a:solidFill>
                <a:latin typeface="Times New Roman"/>
              </a:rPr>
              <a:t>Obecní úřad obce s rozšířenou působností (OR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Z Výstražný kříž pro žel. přejezd, světelný signál pro zabezpečení žel. přejezdu a sig. tramvaje – </a:t>
            </a:r>
            <a:r>
              <a:rPr b="0" lang="cs-CZ" sz="2800" spc="-1" strike="noStrike">
                <a:solidFill>
                  <a:srgbClr val="ffcc00"/>
                </a:solidFill>
                <a:latin typeface="Times New Roman"/>
              </a:rPr>
              <a:t>drážní úřad se souhlasem KÚ nebo OR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čelové komunikace, které nejsou veřejně přístupné – </a:t>
            </a:r>
            <a:r>
              <a:rPr b="0" lang="cs-CZ" sz="2800" spc="-1" strike="noStrike">
                <a:solidFill>
                  <a:srgbClr val="ffcc00"/>
                </a:solidFill>
                <a:latin typeface="Times New Roman"/>
              </a:rPr>
              <a:t>vlastní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do 5 dnů oznámí umístění DZ OR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Místní úprava provozu a užití zařízení pro provozní informace</a:t>
            </a:r>
            <a:endParaRPr b="0" lang="en-US" sz="4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pravní značky - svislé, vodorovn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ětelné a doprovodné akustické signá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pravní zaříz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řízení pro provoz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Přechodná úprava provozu </a:t>
            </a:r>
            <a:endParaRPr b="0" lang="en-US" sz="4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nosné dopravní značky svis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chodné dopravní značky vodorovn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ětelné signá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pravní zaříz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á schémata, celorok, př. TP66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Postup při stanovení</a:t>
            </a:r>
            <a:endParaRPr b="0" lang="en-US" sz="4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ávrh na stanovení (volná forma nebo předtis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ický náčrtek situace nebo plánek, zákres do m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isko příslušného orgánu policie (Ministerstva vnitr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 místní úpravy vyjádření správce komunikace (zákon jej nevyžadu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bdélník 2"/>
          <p:cNvSpPr/>
          <p:nvPr/>
        </p:nvSpPr>
        <p:spPr>
          <a:xfrm>
            <a:off x="609480" y="1523880"/>
            <a:ext cx="79250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stanovení není právní nár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á se o řízení z moci úřed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tedy správní orgán vydá opatření obecné povahy nebo přípis, kterým se navrhované dopravní značení stanoví nebo v opačném případě se dopravní značení nestano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ravné prostřed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nelze podat řádný opravný prostředek, lze podat přezk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39d"/>
                </a:solidFill>
                <a:latin typeface="Arial"/>
              </a:rPr>
              <a:t>Forma stanovení místní a přechodné úpravy</a:t>
            </a:r>
            <a:endParaRPr b="0" lang="en-US" sz="4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39d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ístní úprava provozu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třením obecné povahy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avní značky, jestliže z nich plynou odlišné povinnosti než které by účastníci měli podle obecné úpra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ípis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případě, že se nejedná o výše popsané dopravní znač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váčková Pavlína</dc:creator>
  <dc:description/>
  <dc:language>en-US</dc:language>
  <cp:lastModifiedBy>Nováčková Pavlína</cp:lastModifiedBy>
  <dcterms:modified xsi:type="dcterms:W3CDTF">2021-10-20T06:34:58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9</vt:r8>
  </property>
  <property fmtid="{D5CDD505-2E9C-101B-9397-08002B2CF9AE}" pid="3" name="Version">
    <vt:r8>3</vt:r8>
  </property>
</Properties>
</file>